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54EB3-4337-485C-B09F-7AA0E210A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A2BC5-03EE-4C15-A44E-2864A0872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5A0DB-CA5D-455A-A46A-185D2CD8F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7BF64-37D1-4C5B-B819-C34DA6469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9634D-A377-4F02-A548-A7B0CE02A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5688B-B3FD-41F2-897F-88CAF9290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DF2B4-AA5A-4CF7-8A73-1ADE557E3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1FCFA-8A92-40AA-B9AE-F0B1CB8BB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3CA29-3FD3-4D17-B690-5675F16AD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CA4EE-A1A7-4F22-8CA5-7A705399C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E7FBA-E69B-4A31-AA88-1D70F6457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954D1-1107-44F6-82E8-0969C6431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378E1-80E0-4C26-82E7-33BDE433B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BF36C-916C-4B14-87C3-D83E1856E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A8E56-4B2F-47BE-89B6-1BFAEFBFF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0E0E6-C28F-4E19-806D-94C21D4F6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EC8F7-D132-4BE7-8B81-9ECEE642F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1E75F9-E348-40AF-94AF-1DA2396927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3A27F-3996-44D2-A2CD-449EE9401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F12FF-81BF-4B0B-BC01-E87B368A9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43DCC-8D16-46D9-926B-FE25AA388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EDABB-8FDD-4ADB-97AB-1264E06EB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4A163-A82C-43A6-B76E-9CCC8E2FC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CA6713-C7C9-4090-A5AD-1D312950B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E8BFA9-23C1-41C9-9B33-B5B094B89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822EE-A928-4084-90B3-2181CF22C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DB667-0676-45B3-94B2-A81298E54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B7285-4E7D-4963-89F0-7F5B3D860A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130DA0-F24F-4A75-9F13-80BB97F97E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26F92C-01B7-4167-A964-C545E85A80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5264A8-72EC-4E9B-B40C-E0F626B8E1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47848C-1B0F-4F53-BD01-49F497135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66BDFC-F3BD-40B3-8E86-553C05FD0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5CA09-81CE-4410-9C5D-92ADB65C4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DF6E4-04C9-4D19-A8D2-C79B7CEDA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37402-03AB-4DB8-BEE6-CDBFDD3C89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88BFDA-A11B-4F41-8394-E989D8C13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6C8CB-D689-4234-AEF0-346A55408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FBC189-8AE4-4785-80FB-803C5D7B2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9E864-3F7E-4F4E-ACB5-95B37BA07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035C8-BE75-4CF8-B326-97D4205DA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641BF-842F-4AF3-880B-098DE3EB90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A79D3D-5350-4BB0-9D43-D5DCD39A50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A5D0B9-ED9F-4DF5-A921-0C609E1B78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3A344-3546-4947-916D-1E3A4E4AD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CD177-CB68-4833-891D-02B397F0A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DE9FDB-716B-4A01-AF8C-02E255A82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003F1E-48E7-484C-A8A5-4E1D12CD5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AAE8A1-FA44-4043-829D-8F79A1712D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F77A19-6F8E-49A5-BF29-ADFF068FC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ED9DC4-96BE-4D87-850F-E3F29ABEB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D8FE5-7D43-429F-AAD4-547990502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B1F95-B6F6-4AA4-95D2-DE2BA9AC2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A20088-4491-446E-A208-4945EE27E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6EDE30-DC17-400A-9E3A-CC80D9AE11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52464-CDAA-4243-AB05-93E5A8BF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38E32A-5A03-4540-9073-D0D2F9F969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F525F9-CEDF-4F46-96EA-1751162A37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9E1963-C1A9-413D-9B0F-96835E569E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DECF06-A0B4-4CEB-BCA0-919781F383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1BD337-FE42-48F1-93A5-D87BD85B3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22C505-6804-47C2-873F-09EDD1924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2870BD-7741-4679-8DD4-9909E5981B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35576-C078-406F-995B-170AAEFB8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C6DA12-90AA-4D79-9811-EF7522FAE1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B4BA0-D711-428B-85B7-521B10ECC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A717-963F-4674-A58E-72BCAA40B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3CF316-D5CA-4184-805D-A31FA6BE24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4EFF24-EE94-4720-BF59-7CBFA50E9A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4D6800-9124-4C32-9458-AFA2571A1E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E61839-2DD6-43D1-BA33-BA0BD98291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830101-7FB8-4EE8-851F-7DCB7D7DB7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D80036-48B0-4E02-82B4-BC50B6D2F2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BF2032-BF5E-46F0-963B-137DDE4B96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C1816-AEA7-4AC2-99FC-E80F45FA22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DCF07-1A03-4A38-8B89-0A57453098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0AF344-B165-4745-A6EB-6075BF741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87356-F069-4EB5-A841-1B19EC0F0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19141E-3908-4A2D-9525-265D013209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B89B0-410F-473A-BA1B-EB4A15634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01A1D-0CF3-492C-B950-973324C3F3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023669-1490-4469-94B7-6C0CD52465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26B4DF-9952-4613-8977-73D5018FD8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DCA7-130A-4307-8387-C69D29A0B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Прямоугольник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Прямоугольник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Прямоугольник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Прямоугольник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E89B-7E86-4508-8463-36D5C647FB50}"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Прямоугольник 31"/>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Прямоугольник 3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Прямоугольник 3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Прямоугольник 4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Прямоугольник 41"/>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Прямоугольник 55"/>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Прямоугольник 64"/>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Прямоугольник 65"/>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Прямоугольник 66"/>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518A-2193-46D1-B25A-011C0B2FAABE}"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Прямоугольник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Прямоугольник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Прямоугольник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Прямоугольник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Полилиния 13"/>
          <p:cNvSpPr/>
          <p:nvPr/>
        </p:nvSpPr>
        <p:spPr>
          <a:xfrm>
            <a:off x="4829040" y="1073160"/>
            <a:ext cx="4321440" cy="5791320"/>
          </a:xfrm>
          <a:prstGeom prst="pie">
            <a:avLst/>
          </a:pr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Полилиния 14"/>
          <p:cNvSpPr/>
          <p:nvPr/>
        </p:nvSpPr>
        <p:spPr>
          <a:xfrm>
            <a:off x="374760" y="0"/>
            <a:ext cx="5513400" cy="6615000"/>
          </a:xfrm>
          <a:prstGeom prst="pie">
            <a:avLst/>
          </a:pr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Полилиния 12"/>
          <p:cNvSpPr/>
          <p:nvPr/>
        </p:nvSpPr>
        <p:spPr>
          <a:xfrm rot="5236200">
            <a:off x="4461120" y="1483200"/>
            <a:ext cx="4114800" cy="1189080"/>
          </a:xfrm>
          <a:prstGeom prst="pie">
            <a:avLst/>
          </a:pr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Полилиния 15"/>
          <p:cNvSpPr/>
          <p:nvPr/>
        </p:nvSpPr>
        <p:spPr>
          <a:xfrm>
            <a:off x="5943600" y="0"/>
            <a:ext cx="2743200" cy="426708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Полилиния 16"/>
          <p:cNvSpPr/>
          <p:nvPr/>
        </p:nvSpPr>
        <p:spPr>
          <a:xfrm>
            <a:off x="5943600" y="4267080"/>
            <a:ext cx="3200400" cy="114300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Полилиния 17"/>
          <p:cNvSpPr/>
          <p:nvPr/>
        </p:nvSpPr>
        <p:spPr>
          <a:xfrm>
            <a:off x="5943600" y="0"/>
            <a:ext cx="1371600" cy="426708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Полилиния 18"/>
          <p:cNvSpPr/>
          <p:nvPr/>
        </p:nvSpPr>
        <p:spPr>
          <a:xfrm>
            <a:off x="5948280" y="4246560"/>
            <a:ext cx="2090880" cy="261144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Полилиния 19"/>
          <p:cNvSpPr/>
          <p:nvPr/>
        </p:nvSpPr>
        <p:spPr>
          <a:xfrm>
            <a:off x="5943600" y="4267080"/>
            <a:ext cx="1600200" cy="259092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Полилиния 20"/>
          <p:cNvSpPr/>
          <p:nvPr/>
        </p:nvSpPr>
        <p:spPr>
          <a:xfrm>
            <a:off x="5943600" y="1371600"/>
            <a:ext cx="3200400" cy="289548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Полилиния 21"/>
          <p:cNvSpPr/>
          <p:nvPr/>
        </p:nvSpPr>
        <p:spPr>
          <a:xfrm>
            <a:off x="5943600" y="1752480"/>
            <a:ext cx="3200400" cy="251460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Полилиния 22"/>
          <p:cNvSpPr/>
          <p:nvPr/>
        </p:nvSpPr>
        <p:spPr>
          <a:xfrm>
            <a:off x="990720" y="4267080"/>
            <a:ext cx="4952880" cy="259092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Полилиния 23"/>
          <p:cNvSpPr/>
          <p:nvPr/>
        </p:nvSpPr>
        <p:spPr>
          <a:xfrm>
            <a:off x="533520" y="4267080"/>
            <a:ext cx="5333760" cy="259092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Полилиния 24"/>
          <p:cNvSpPr/>
          <p:nvPr/>
        </p:nvSpPr>
        <p:spPr>
          <a:xfrm>
            <a:off x="366840" y="2438280"/>
            <a:ext cx="5638680" cy="182880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Полилиния 25"/>
          <p:cNvSpPr/>
          <p:nvPr/>
        </p:nvSpPr>
        <p:spPr>
          <a:xfrm>
            <a:off x="366840" y="2133720"/>
            <a:ext cx="5638680" cy="213336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Полилиния 26"/>
          <p:cNvSpPr/>
          <p:nvPr/>
        </p:nvSpPr>
        <p:spPr>
          <a:xfrm>
            <a:off x="4572000" y="4267080"/>
            <a:ext cx="1371600" cy="2590920"/>
          </a:xfrm>
          <a:prstGeom prst="pie">
            <a:avLst/>
          </a:pr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Прямоугольник 6"/>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Прямоугольник 7"/>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Прямоугольник 8"/>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Прямоугольник 9"/>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Прямоугольник 10"/>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Прямоугольник 11"/>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566A-FDB5-420A-9798-F7B8F8086D5E}"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1A52-C765-4F8D-8589-D23B0D5E7983}"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Прямоугольник 24"/>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Прямоугольник 15"/>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Прямоугольник 16"/>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Прямоугольник 17"/>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Прямоугольник 18"/>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Прямоугольник 19"/>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Прямоугольник 20"/>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Прямоугольник 21"/>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Прямоугольник 28"/>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Прямоугольник 29"/>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1482-D871-4EAF-8B80-4E682DFA0A98}"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033E-0AF9-4ECF-8E76-53AEAE3A7894}"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Прямоугольник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Прямоугольник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Прямоугольник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Прямоугольник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Прямоугольник 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Прямая соединительная линия 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Группа 9"/>
          <p:cNvGrpSpPr/>
          <p:nvPr/>
        </p:nvGrpSpPr>
        <p:grpSpPr>
          <a:xfrm>
            <a:off x="8516880" y="1217520"/>
            <a:ext cx="128160" cy="131760"/>
            <a:chOff x="8516880" y="1217520"/>
            <a:chExt cx="128160" cy="131760"/>
          </a:xfrm>
        </p:grpSpPr>
        <p:sp>
          <p:nvSpPr>
            <p:cNvPr id="316" name="Прямая соединительная линия 14"/>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Прямая соединительная линия 15"/>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Прямая соединительная линия 16"/>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Группа 13"/>
          <p:cNvGrpSpPr/>
          <p:nvPr/>
        </p:nvGrpSpPr>
        <p:grpSpPr>
          <a:xfrm>
            <a:off x="8669160" y="1370160"/>
            <a:ext cx="128880" cy="131760"/>
            <a:chOff x="8669160" y="1370160"/>
            <a:chExt cx="128880" cy="131760"/>
          </a:xfrm>
        </p:grpSpPr>
        <p:sp>
          <p:nvSpPr>
            <p:cNvPr id="320" name="Прямая соединительная линия 10"/>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Прямая соединительная линия 11"/>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Прямая соединительная линия 12"/>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Группа 17"/>
          <p:cNvGrpSpPr/>
          <p:nvPr/>
        </p:nvGrpSpPr>
        <p:grpSpPr>
          <a:xfrm>
            <a:off x="8321760" y="1473120"/>
            <a:ext cx="128160" cy="131760"/>
            <a:chOff x="8321760" y="1473120"/>
            <a:chExt cx="128160" cy="131760"/>
          </a:xfrm>
        </p:grpSpPr>
        <p:sp>
          <p:nvSpPr>
            <p:cNvPr id="324" name="Прямая соединительная линия 18"/>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Прямая соединительная линия 19"/>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Прямая соединительная линия 20"/>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772F-073E-4676-AB32-8E7941BC20D1}"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68" name=""/>
          <p:cNvSpPr/>
          <p:nvPr/>
        </p:nvSpPr>
        <p:spPr>
          <a:xfrm>
            <a:off x="2511360" y="1481040"/>
            <a:ext cx="4940280" cy="2775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00"/>
                </a:solidFill>
                <a:latin typeface="Times New Roman"/>
              </a:rPr>
              <a:t>Охорона підземних вод</a:t>
            </a:r>
            <a:br>
              <a:rPr sz="4400"/>
            </a:br>
            <a:r>
              <a:rPr b="1" lang="uk-UA" sz="4400" spc="-1" strike="noStrike">
                <a:solidFill>
                  <a:srgbClr val="ff0000"/>
                </a:solidFill>
                <a:latin typeface="Times New Roman"/>
              </a:rPr>
              <a:t>від виснаження та забруднення</a:t>
            </a:r>
            <a:r>
              <a:rPr b="0" lang="uk-UA" sz="4400" spc="-1" strike="noStrike">
                <a:solidFill>
                  <a:srgbClr val="ff0000"/>
                </a:solidFill>
                <a:latin typeface="Times New Roman"/>
              </a:rPr>
              <a:t> </a:t>
            </a:r>
            <a:endParaRPr b="0" lang="en-US" sz="4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7" name=""/>
          <p:cNvSpPr txBox="1"/>
          <p:nvPr/>
        </p:nvSpPr>
        <p:spPr>
          <a:xfrm>
            <a:off x="468000" y="333360"/>
            <a:ext cx="8675640" cy="6408720"/>
          </a:xfrm>
          <a:prstGeom prst="rect">
            <a:avLst/>
          </a:prstGeom>
          <a:noFill/>
          <a:ln w="0">
            <a:noFill/>
          </a:ln>
        </p:spPr>
        <p:txBody>
          <a:bodyPr lIns="90000" rIns="90000" tIns="46800" bIns="46800" anchor="t">
            <a:normAutofit/>
          </a:bodyPr>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0000"/>
                </a:solidFill>
                <a:latin typeface="Times New Roman"/>
              </a:rPr>
              <a:t>За походженням забруднюючі речовини можуть бути:</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 </a:t>
            </a:r>
            <a:r>
              <a:rPr b="0" lang="uk-UA" sz="2000" spc="-1" strike="noStrike">
                <a:solidFill>
                  <a:srgbClr val="ffffff"/>
                </a:solidFill>
                <a:latin typeface="Times New Roman"/>
              </a:rPr>
              <a:t>1) з промисловими стічними водами і відходами;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2) з господарсько-побутовими стічними водами та відходами;</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 </a:t>
            </a:r>
            <a:r>
              <a:rPr b="0" lang="uk-UA" sz="2000" spc="-1" strike="noStrike">
                <a:solidFill>
                  <a:srgbClr val="ffffff"/>
                </a:solidFill>
                <a:latin typeface="Times New Roman"/>
              </a:rPr>
              <a:t>3) із сільськогосподарськими добривами, отрутохімікатами, стоками та відходами птахоферм і тваринницьких комплексів;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4) з природними некондиційними (солоні води морів і поверхневих водотоків, підземні води, вміщуючи підвищені кількості хлоридів, сульфатів, заліза, фтору, сірководню солей тощо).</a:t>
            </a:r>
            <a:endParaRPr b="0" lang="en-US" sz="2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0000"/>
                </a:solidFill>
                <a:latin typeface="Times New Roman"/>
              </a:rPr>
              <a:t>За особливостями забруднюючих речовин виділяють</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 </a:t>
            </a:r>
            <a:r>
              <a:rPr b="0" lang="uk-UA" sz="2000" spc="-1" strike="noStrike">
                <a:solidFill>
                  <a:srgbClr val="ffffff"/>
                </a:solidFill>
                <a:latin typeface="Times New Roman"/>
              </a:rPr>
              <a:t>хімічне (неорганічне, органічне),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біологічне (мікробне, водоростеве),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радіоактивне,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теплове забруднення.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8" name=""/>
          <p:cNvSpPr txBox="1"/>
          <p:nvPr/>
        </p:nvSpPr>
        <p:spPr>
          <a:xfrm>
            <a:off x="539280" y="115560"/>
            <a:ext cx="8496360" cy="6599160"/>
          </a:xfrm>
          <a:prstGeom prst="rect">
            <a:avLst/>
          </a:prstGeom>
          <a:noFill/>
          <a:ln w="0">
            <a:noFill/>
          </a:ln>
        </p:spPr>
        <p:txBody>
          <a:bodyPr lIns="90000" rIns="90000" tIns="46800" bIns="46800" anchor="t">
            <a:normAutofit fontScale="99000"/>
          </a:bodyPr>
          <a:p>
            <a:pPr marL="406800" indent="-339120" algn="ctr">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Охорона підземних вод від забруднення</a:t>
            </a:r>
            <a:endParaRPr b="0" lang="en-US" sz="3600" spc="-1" strike="noStrike">
              <a:solidFill>
                <a:srgbClr val="ffffff"/>
              </a:solidFill>
              <a:latin typeface="Corbel"/>
            </a:endParaRPr>
          </a:p>
          <a:p>
            <a:pPr marL="406800" indent="-3391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cc00"/>
                </a:solidFill>
                <a:latin typeface="Times New Roman"/>
              </a:rPr>
              <a:t>Охорона підземних вод від забруднення</a:t>
            </a:r>
            <a:r>
              <a:rPr b="0" lang="uk-UA" sz="1800" spc="-1" strike="noStrike">
                <a:solidFill>
                  <a:srgbClr val="ffffff"/>
                </a:solidFill>
                <a:latin typeface="Times New Roman"/>
              </a:rPr>
              <a:t> розглядається як комплекс заходів, що мають на меті запобігання, ліквідацію його наслідків, збереження та покращення якості підземних вод для їх ефективного використання в господарстві. </a:t>
            </a:r>
            <a:endParaRPr b="0" lang="en-US" sz="1800" spc="-1" strike="noStrike">
              <a:solidFill>
                <a:srgbClr val="ffffff"/>
              </a:solidFill>
              <a:latin typeface="Corbel"/>
            </a:endParaRPr>
          </a:p>
          <a:p>
            <a:pPr marL="406800" indent="-3391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Велику роль серед заходів з охорони підземних вод від забруднення має виконання існуючих та розробка </a:t>
            </a:r>
            <a:r>
              <a:rPr b="0" i="1" lang="uk-UA" sz="1800" spc="-1" strike="noStrike">
                <a:solidFill>
                  <a:srgbClr val="ffffff"/>
                </a:solidFill>
                <a:latin typeface="Times New Roman"/>
              </a:rPr>
              <a:t>законодавств і державних стандартів</a:t>
            </a:r>
            <a:r>
              <a:rPr b="0" lang="uk-UA" sz="1800" spc="-1" strike="noStrike">
                <a:solidFill>
                  <a:srgbClr val="ffffff"/>
                </a:solidFill>
                <a:latin typeface="Times New Roman"/>
              </a:rPr>
              <a:t>, які регулюють: нормативи гранично допустимих концентрацій і гранично припустимих викидів забруднюючих речовин; раціональне використання підземних вод; розміщення та експлуатацію нових підприємств, водозаборів підземних вод та інших об'єктів, які використовують підземні води та впливають на них; проведення пошукових і розвідувальних робіт на нафту, газ та інші корисні копалини.</a:t>
            </a:r>
            <a:endParaRPr b="0" lang="en-US" sz="1800" spc="-1" strike="noStrike">
              <a:solidFill>
                <a:srgbClr val="ffffff"/>
              </a:solidFill>
              <a:latin typeface="Corbel"/>
            </a:endParaRPr>
          </a:p>
          <a:p>
            <a:pPr marL="406800" indent="-3391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За законодавствами, які діють в Україні, заходи, що забезпечують раціональне використання й охорону підземних вод, є обов'язком всіх підприємств-водокористувачів. Використання "резервуарів" прісних підземних вод для скиду різноманітних стічних вод заборонено. Скид стічних вод допускається, якщо він не призводить до появлення у воді забруднюючих речовин вище встановлених норм і за умови очищення водокористувачем стічних вод до необхідних меж. Якщо зазначені вимоги порушуються, скид обмежується і призупиняється.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9" name=""/>
          <p:cNvSpPr txBox="1"/>
          <p:nvPr/>
        </p:nvSpPr>
        <p:spPr>
          <a:xfrm>
            <a:off x="539280" y="189000"/>
            <a:ext cx="8425080" cy="6408720"/>
          </a:xfrm>
          <a:prstGeom prst="rect">
            <a:avLst/>
          </a:prstGeom>
          <a:noFill/>
          <a:ln w="0">
            <a:noFill/>
          </a:ln>
        </p:spPr>
        <p:txBody>
          <a:bodyPr lIns="90000" rIns="90000" tIns="46800" bIns="46800" anchor="t">
            <a:normAutofit/>
          </a:bodyPr>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ff0000"/>
                </a:solidFill>
                <a:uFillTx/>
                <a:latin typeface="Times New Roman"/>
              </a:rPr>
              <a:t>Попередженню забруднення підземних вод сприяють заходи загального характеру:</a:t>
            </a:r>
            <a:r>
              <a:rPr b="0" lang="uk-UA" sz="2000" spc="-1" strike="noStrike">
                <a:solidFill>
                  <a:srgbClr val="ffffff"/>
                </a:solidFill>
                <a:latin typeface="Times New Roman"/>
              </a:rPr>
              <a:t>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1) створення замкнених систем промислового водопостачання і каналізації;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2) упровадження виробництва з безстічною технологією чи з мінімальною кількістю стічних вод і інших відходів;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3) удосконалення очищення стічних вод;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4) ізоляція комунікацій зі стічними водами;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5) ліквідація чи очистка газодимових викидів на підприємствах;</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 </a:t>
            </a:r>
            <a:r>
              <a:rPr b="0" lang="uk-UA" sz="2000" spc="-1" strike="noStrike">
                <a:solidFill>
                  <a:srgbClr val="ffffff"/>
                </a:solidFill>
                <a:latin typeface="Times New Roman"/>
              </a:rPr>
              <a:t>6) контрольоване чи обмежене використання отрутохімікатів і добрив на сільськогосподарських територіях;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7) надійне захоронення особливо шкідливих стоків, які не мають економічно виправданих методів очистки чи ліквідації;</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 </a:t>
            </a:r>
            <a:r>
              <a:rPr b="0" lang="uk-UA" sz="2000" spc="-1" strike="noStrike">
                <a:solidFill>
                  <a:srgbClr val="ffffff"/>
                </a:solidFill>
                <a:latin typeface="Times New Roman"/>
              </a:rPr>
              <a:t>8) створення водоохоронних зон у районах розвитку ґрунтових вод з установленням тут суворих правил господарської та будівельної діяльності.</a:t>
            </a:r>
            <a:r>
              <a:rPr b="0" lang="ru-RU" sz="2000" spc="-1" strike="noStrike">
                <a:solidFill>
                  <a:srgbClr val="ffffff"/>
                </a:solidFill>
                <a:latin typeface="Times New Roman"/>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80" name=""/>
          <p:cNvSpPr txBox="1"/>
          <p:nvPr/>
        </p:nvSpPr>
        <p:spPr>
          <a:xfrm>
            <a:off x="610920" y="189000"/>
            <a:ext cx="8281800" cy="6480000"/>
          </a:xfrm>
          <a:prstGeom prst="rect">
            <a:avLst/>
          </a:prstGeom>
          <a:noFill/>
          <a:ln w="0">
            <a:noFill/>
          </a:ln>
        </p:spPr>
        <p:txBody>
          <a:bodyPr lIns="90000" rIns="90000" tIns="46800" bIns="46800" anchor="t">
            <a:normAutofit/>
          </a:bodyPr>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Окрім описаних вище заходів загального характеру, для захисту підземних вод від забруднення застосовуються </a:t>
            </a:r>
            <a:r>
              <a:rPr b="0" i="1" lang="uk-UA" sz="2000" spc="-1" strike="noStrike">
                <a:solidFill>
                  <a:srgbClr val="ff0000"/>
                </a:solidFill>
                <a:latin typeface="Times New Roman"/>
              </a:rPr>
              <a:t>спеціальні заходи</a:t>
            </a:r>
            <a:r>
              <a:rPr b="0" lang="uk-UA" sz="2000" spc="-1" strike="noStrike">
                <a:solidFill>
                  <a:srgbClr val="ffffff"/>
                </a:solidFill>
                <a:latin typeface="Times New Roman"/>
              </a:rPr>
              <a:t> як для попередження забруднення, так і при необхідності для локалізації або ліквідації ділянки забруднення підземних вод, яке вже виникло у водоносному горизонті.</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0000"/>
                </a:solidFill>
                <a:latin typeface="Times New Roman"/>
              </a:rPr>
              <a:t>Спеціальні заходи</a:t>
            </a:r>
            <a:r>
              <a:rPr b="0" lang="uk-UA" sz="2000" spc="-1" strike="noStrike">
                <a:solidFill>
                  <a:srgbClr val="ffffff"/>
                </a:solidFill>
                <a:latin typeface="Times New Roman"/>
              </a:rPr>
              <a:t> здійснюються за допомогою різноманітних інженерних споруд, схема розташування яких, тип і конструкція визначаються гідрогеологічними умовами, характером джерела забруднення, масштабами забруднення, яке відбулося, характером і значенням об`єкта захисту (водоносний горизонт у цілому, окремі водозабори підземних вод, поверхневий водостік тощо).</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Тип спеціальних захисних заходів для боротьби із забрудненням підземних вод слід призначати й обирати відповідно до результатів розробки техніко-економічного обґрунтування проекту захисту, в якому розглядаються і зіставляються, з одного боку, розміри збитку народному господарству від забруднення підземних вод і, з другого боку, вартість різних варіантів захисту. При цьому мають бути також обрані джерела водопостачання, оцінена забезпеченість району підземними водами і враховані економічні аспекти даного питання, які не підлягають безпосередній економічній оцінці.</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68360" y="189000"/>
            <a:ext cx="8424720" cy="6408720"/>
          </a:xfrm>
          <a:prstGeom prst="rect">
            <a:avLst/>
          </a:prstGeom>
          <a:noFill/>
          <a:ln w="0">
            <a:noFill/>
          </a:ln>
        </p:spPr>
        <p:txBody>
          <a:bodyPr lIns="90000" rIns="90000" tIns="46800" bIns="46800" anchor="t">
            <a:normAutofit/>
          </a:bodyPr>
          <a:p>
            <a:pPr marL="411120" indent="-342720" algn="just">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ffffff"/>
                </a:solidFill>
                <a:latin typeface="Times New Roman"/>
              </a:rPr>
              <a:t>При експлуатаційних підземних вод за допомогою водозабірних споруд з метою питного водопостачання одним із найважливіших заходів з охорони підземних вод є створення </a:t>
            </a:r>
            <a:r>
              <a:rPr b="1" i="1" lang="uk-UA" sz="2100" spc="-1" strike="noStrike">
                <a:solidFill>
                  <a:srgbClr val="ff0000"/>
                </a:solidFill>
                <a:latin typeface="Times New Roman"/>
              </a:rPr>
              <a:t>зони санітарної охорони</a:t>
            </a:r>
            <a:r>
              <a:rPr b="1" lang="uk-UA" sz="2100" spc="-1" strike="noStrike">
                <a:solidFill>
                  <a:srgbClr val="ff0000"/>
                </a:solidFill>
                <a:latin typeface="Times New Roman"/>
              </a:rPr>
              <a:t> (ЗСО)</a:t>
            </a:r>
            <a:r>
              <a:rPr b="0" lang="uk-UA" sz="2100" spc="-1" strike="noStrike">
                <a:solidFill>
                  <a:srgbClr val="ffffff"/>
                </a:solidFill>
                <a:latin typeface="Times New Roman"/>
              </a:rPr>
              <a:t> навколо </a:t>
            </a:r>
            <a:r>
              <a:rPr b="0" i="1" lang="uk-UA" sz="2100" spc="-1" strike="noStrike">
                <a:solidFill>
                  <a:srgbClr val="ffffff"/>
                </a:solidFill>
                <a:latin typeface="Times New Roman"/>
              </a:rPr>
              <a:t>водозабірних споруд,</a:t>
            </a:r>
            <a:r>
              <a:rPr b="0" lang="uk-UA" sz="2100" spc="-1" strike="noStrike">
                <a:solidFill>
                  <a:srgbClr val="ffffff"/>
                </a:solidFill>
                <a:latin typeface="Times New Roman"/>
              </a:rPr>
              <a:t> що складається з трьох поясів.</a:t>
            </a:r>
            <a:endParaRPr b="0" lang="en-US" sz="2100" spc="-1" strike="noStrike">
              <a:solidFill>
                <a:srgbClr val="ffffff"/>
              </a:solidFill>
              <a:latin typeface="Corbel"/>
            </a:endParaRPr>
          </a:p>
          <a:p>
            <a:pPr marL="411120" indent="-342720" algn="just">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ffffff"/>
                </a:solidFill>
                <a:latin typeface="Times New Roman"/>
              </a:rPr>
              <a:t> </a:t>
            </a:r>
            <a:r>
              <a:rPr b="0" lang="uk-UA" sz="2100" spc="-1" strike="noStrike">
                <a:solidFill>
                  <a:srgbClr val="00cc00"/>
                </a:solidFill>
                <a:latin typeface="Times New Roman"/>
              </a:rPr>
              <a:t>Перший – пояс суворого режиму.</a:t>
            </a:r>
            <a:r>
              <a:rPr b="0" lang="uk-UA" sz="2100" spc="-1" strike="noStrike">
                <a:solidFill>
                  <a:srgbClr val="ffffff"/>
                </a:solidFill>
                <a:latin typeface="Times New Roman"/>
              </a:rPr>
              <a:t> Він встановлюється на відстані не менше 30 м від водозабірної споруди при використанні напірних водоносних горизонтів і не менше 50 м – при експлуатації ґрунтових. </a:t>
            </a:r>
            <a:endParaRPr b="0" lang="en-US" sz="2100" spc="-1" strike="noStrike">
              <a:solidFill>
                <a:srgbClr val="ffffff"/>
              </a:solidFill>
              <a:latin typeface="Corbel"/>
            </a:endParaRPr>
          </a:p>
          <a:p>
            <a:pPr marL="411120" indent="-342720" algn="just">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cc00"/>
                </a:solidFill>
                <a:latin typeface="Times New Roman"/>
              </a:rPr>
              <a:t>Другий і третій пояси ЗСО – пояси обмежень.</a:t>
            </a:r>
            <a:r>
              <a:rPr b="0" lang="uk-UA" sz="2100" spc="-1" strike="noStrike">
                <a:solidFill>
                  <a:srgbClr val="ffffff"/>
                </a:solidFill>
                <a:latin typeface="Times New Roman"/>
              </a:rPr>
              <a:t> Вони призначені для захисту водоносних горизонтів від мікробного (другий пояс) і хімічного (третій пояс) забруднення. Межа другого поясу визначається, виходячи з часу виживання патогенних мікробів при русі води до водозабору. Цей розрахунковий час приймається таким, що дорівнює 200-400 добам для ґрунтових вод і 100-200 добам – для напірних залежно від умов взаємозв'язку поверхневих і підземних вод та кліматичних районів. Межа третього поясу встановлюється на відстані, що виключає добігання хімічного забруднення до водозабору за час його експлуатації.</a:t>
            </a: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69" name=""/>
          <p:cNvSpPr txBox="1"/>
          <p:nvPr/>
        </p:nvSpPr>
        <p:spPr>
          <a:xfrm>
            <a:off x="539280" y="188640"/>
            <a:ext cx="8280360" cy="6335640"/>
          </a:xfrm>
          <a:prstGeom prst="rect">
            <a:avLst/>
          </a:prstGeom>
          <a:noFill/>
          <a:ln w="0">
            <a:noFill/>
          </a:ln>
        </p:spPr>
        <p:txBody>
          <a:bodyPr lIns="90000" rIns="90000" tIns="46800" bIns="46800" anchor="t">
            <a:normAutofit/>
          </a:bodyPr>
          <a:p>
            <a:pPr marL="6840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Проблема чистої води – одна з головних у комплексі природоохоронних заходів. Сучасна криза навколишнього середовища викликана як науково-технічним прогресом, так і бурхливим економічним розвитком, демографічним вибухом тощо.</a:t>
            </a:r>
            <a:endParaRPr b="0" lang="en-US" sz="1800" spc="-1" strike="noStrike">
              <a:solidFill>
                <a:srgbClr val="ffffff"/>
              </a:solidFill>
              <a:latin typeface="Corbel"/>
            </a:endParaRPr>
          </a:p>
          <a:p>
            <a:pPr marL="6840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Підземні води – найбільш дефіцитна частина водних ресурсів, саме тому їх використовування, переважно для пиття, відображено в законодавстві провідних країн світу. </a:t>
            </a:r>
            <a:endParaRPr b="0" lang="en-US" sz="1800" spc="-1" strike="noStrike">
              <a:solidFill>
                <a:srgbClr val="ffffff"/>
              </a:solidFill>
              <a:latin typeface="Corbel"/>
            </a:endParaRPr>
          </a:p>
          <a:p>
            <a:pPr marL="6840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Причинами зменшення ресурсів прісних вод є, по-перше, інтенсивне їх виснаження і, по-друге, забруднення.</a:t>
            </a:r>
            <a:endParaRPr b="0" lang="en-US" sz="1800" spc="-1" strike="noStrike">
              <a:solidFill>
                <a:srgbClr val="ffffff"/>
              </a:solidFill>
              <a:latin typeface="Corbel"/>
            </a:endParaRPr>
          </a:p>
          <a:p>
            <a:pPr marL="6840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Times New Roman"/>
              </a:rPr>
              <a:t>Виснаження</a:t>
            </a:r>
            <a:r>
              <a:rPr b="0" lang="uk-UA" sz="1800" spc="-1" strike="noStrike">
                <a:solidFill>
                  <a:srgbClr val="ff0000"/>
                </a:solidFill>
                <a:latin typeface="Times New Roman"/>
              </a:rPr>
              <a:t> </a:t>
            </a:r>
            <a:r>
              <a:rPr b="0" lang="uk-UA" sz="1800" spc="-1" strike="noStrike">
                <a:solidFill>
                  <a:srgbClr val="ffffff"/>
                </a:solidFill>
                <a:latin typeface="Times New Roman"/>
              </a:rPr>
              <a:t>відбувається внаслідок нерозумної, а часто хижацької експлуатації водних ресурсів. Наразі видобувається набагато більше води, ніж необхідно для безпосередніх потреб. Так, втрати води при водопостачанні становлять більше 20 % від водовідбору, а при зрошенні – понад 70 %. У багатьох районах систематичне зниження рівня підземних вод місцями викликає повне вичерпування водоносних горизонтів із прісною водою. Людина у всезростаючих масштабах використовує підземні води для водопостачання та зрошення, витрачає при осушенні шахт і кар'єрів, водознижувальними установками їх витягають на поверхню при будівництві гідротехнічних споруд, тунелів, метрополітенів тощо. В результаті відбувається "зневоднювання" підземної гідросфери, передусім вичерпування ресурсів прісних підземних вод.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0" name=""/>
          <p:cNvSpPr txBox="1"/>
          <p:nvPr/>
        </p:nvSpPr>
        <p:spPr>
          <a:xfrm>
            <a:off x="395280" y="44280"/>
            <a:ext cx="8640720" cy="6624720"/>
          </a:xfrm>
          <a:prstGeom prst="rect">
            <a:avLst/>
          </a:prstGeom>
          <a:noFill/>
          <a:ln w="0">
            <a:noFill/>
          </a:ln>
        </p:spPr>
        <p:txBody>
          <a:bodyPr lIns="90000" rIns="90000" tIns="46800" bIns="46800" anchor="t">
            <a:normAutofit/>
          </a:bodyPr>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Times New Roman"/>
              </a:rPr>
              <a:t>Забрудненими</a:t>
            </a:r>
            <a:r>
              <a:rPr b="0" lang="uk-UA" sz="2000" spc="-1" strike="noStrike">
                <a:solidFill>
                  <a:srgbClr val="ff0000"/>
                </a:solidFill>
                <a:latin typeface="Times New Roman"/>
              </a:rPr>
              <a:t> </a:t>
            </a:r>
            <a:r>
              <a:rPr b="0" lang="uk-UA" sz="2000" spc="-1" strike="noStrike">
                <a:solidFill>
                  <a:srgbClr val="ffffff"/>
                </a:solidFill>
                <a:latin typeface="Times New Roman"/>
              </a:rPr>
              <a:t>підземними водами вважаються такі, склад і фізичні властивості яких під впливом діяльності людини погіршилися порівняно із природними підземними водами району, що не зачеплені антропогенним впливом, і вона стала менш придатною для використання. </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При забрудненні в підземних водах може відбуватися як збільшення вмісту компонентів, що зустрічаються у природних підземних водах (хлоридів, сульфатів, залізу тощо), так і поява не властивих їм елементів і сполук, пов'язаних із діяльністю людини (поверхнево-активних сполук, отрутохімікатів).</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1" name=""/>
          <p:cNvSpPr txBox="1"/>
          <p:nvPr/>
        </p:nvSpPr>
        <p:spPr>
          <a:xfrm>
            <a:off x="179280" y="0"/>
            <a:ext cx="8785440" cy="6453360"/>
          </a:xfrm>
          <a:prstGeom prst="rect">
            <a:avLst/>
          </a:prstGeom>
          <a:noFill/>
          <a:ln w="0">
            <a:noFill/>
          </a:ln>
        </p:spPr>
        <p:txBody>
          <a:bodyPr lIns="90000" rIns="90000" tIns="46800" bIns="46800" anchor="t">
            <a:normAutofit fontScale="97000"/>
          </a:bodyPr>
          <a:p>
            <a:pPr marL="398520" indent="-332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В</a:t>
            </a:r>
            <a:r>
              <a:rPr b="1" lang="ru-RU" sz="3600" spc="-1" strike="noStrike">
                <a:solidFill>
                  <a:srgbClr val="ffffff"/>
                </a:solidFill>
                <a:latin typeface="Times New Roman"/>
              </a:rPr>
              <a:t>иснаження</a:t>
            </a:r>
            <a:r>
              <a:rPr b="1" lang="en-US" sz="3600" spc="-1" strike="noStrike">
                <a:solidFill>
                  <a:srgbClr val="ffffff"/>
                </a:solidFill>
                <a:latin typeface="Times New Roman"/>
              </a:rPr>
              <a:t> ресурсів підземних вод</a:t>
            </a:r>
            <a:br>
              <a:rPr sz="3600"/>
            </a:br>
            <a:r>
              <a:rPr b="1" lang="en-US" sz="3600" spc="-1" strike="noStrike">
                <a:solidFill>
                  <a:srgbClr val="ffffff"/>
                </a:solidFill>
                <a:latin typeface="Times New Roman"/>
              </a:rPr>
              <a:t>та його наслідки</a:t>
            </a:r>
            <a:endParaRPr b="0" lang="en-US" sz="3600" spc="-1" strike="noStrike">
              <a:solidFill>
                <a:srgbClr val="ffffff"/>
              </a:solidFill>
              <a:latin typeface="Corbel"/>
            </a:endParaRPr>
          </a:p>
          <a:p>
            <a:pPr marL="398520" indent="-33228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Під</a:t>
            </a:r>
            <a:r>
              <a:rPr b="1" lang="uk-UA" sz="1800" spc="-1" strike="noStrike">
                <a:solidFill>
                  <a:srgbClr val="c0504d"/>
                </a:solidFill>
                <a:latin typeface="Times New Roman"/>
              </a:rPr>
              <a:t> </a:t>
            </a:r>
            <a:r>
              <a:rPr b="1" i="1" lang="uk-UA" sz="1800" spc="-1" strike="noStrike">
                <a:solidFill>
                  <a:srgbClr val="ff0000"/>
                </a:solidFill>
                <a:latin typeface="Times New Roman"/>
              </a:rPr>
              <a:t>виснаженням підземних вод</a:t>
            </a:r>
            <a:r>
              <a:rPr b="0" lang="uk-UA" sz="1800" spc="-1" strike="noStrike">
                <a:solidFill>
                  <a:srgbClr val="ffffff"/>
                </a:solidFill>
                <a:latin typeface="Times New Roman"/>
              </a:rPr>
              <a:t> розуміється ви</a:t>
            </a:r>
            <a:r>
              <a:rPr b="0" lang="ru-RU" sz="1800" spc="-1" strike="noStrike">
                <a:solidFill>
                  <a:srgbClr val="ffffff"/>
                </a:solidFill>
                <a:latin typeface="Times New Roman"/>
              </a:rPr>
              <a:t>добуток</a:t>
            </a:r>
            <a:r>
              <a:rPr b="0" lang="uk-UA" sz="1800" spc="-1" strike="noStrike">
                <a:solidFill>
                  <a:srgbClr val="ffffff"/>
                </a:solidFill>
                <a:latin typeface="Times New Roman"/>
              </a:rPr>
              <a:t> їх із земних надр у кількостях, що перевищують природне або штучне поповнення. Це проявляється у спрацюванні напорів, зниженні рівня та наступному осушенні водоносних горизонтів.</a:t>
            </a:r>
            <a:endParaRPr b="0" lang="en-US" sz="1800" spc="-1" strike="noStrike">
              <a:solidFill>
                <a:srgbClr val="ffffff"/>
              </a:solidFill>
              <a:latin typeface="Corbel"/>
            </a:endParaRPr>
          </a:p>
          <a:p>
            <a:pPr marL="398520" indent="-33228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Спрацювання напорів і зниження рівнів підземних вод звичайно відбувається як за рахунок діяльності водозабірних споруд, так і при порушенні умов живлення й поповнення ресурсів підземних вод внаслідок вирубки лісу, відсутності паводків на річках, зарегульованих у результаті спорудження водосховищ тощо.</a:t>
            </a:r>
            <a:endParaRPr b="0" lang="en-US" sz="1800" spc="-1" strike="noStrike">
              <a:solidFill>
                <a:srgbClr val="ffffff"/>
              </a:solidFill>
              <a:latin typeface="Corbel"/>
            </a:endParaRPr>
          </a:p>
          <a:p>
            <a:pPr marL="398520" indent="-33228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Вичерпання або виснаження ресурсів підземних вод призводить до зменшення запасів прісних підземних вод, припинення виливу напірних свердловин, осушення колодязів, зникнення джерел тощо. Разом із підземними водами вичерпуються і інші компоненти підземної гідросфери: ґрунтова волога, порові розчини, порушується водно-термічний баланс. </a:t>
            </a:r>
            <a:endParaRPr b="0" lang="en-US" sz="1800" spc="-1" strike="noStrike">
              <a:solidFill>
                <a:srgbClr val="ffffff"/>
              </a:solidFill>
              <a:latin typeface="Corbel"/>
            </a:endParaRPr>
          </a:p>
          <a:p>
            <a:pPr marL="398520" indent="-33228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Кількість води, що вичерпується із земних надр, весь час збільшується. Вже сьогодні відчувається дефіцит прісних підземних вод у багатьох країнах світу, особливо в районах хитливого зволоження. Так, у Молдові наразі використовується значна частина природних ресурсів підземних вод. Те ж саме спостерігається на півдні України, в Закавказзі, Середній Азії, західних і північних штатах США тощо.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2" name=""/>
          <p:cNvSpPr txBox="1"/>
          <p:nvPr/>
        </p:nvSpPr>
        <p:spPr>
          <a:xfrm>
            <a:off x="610920" y="188640"/>
            <a:ext cx="8281800" cy="6335640"/>
          </a:xfrm>
          <a:prstGeom prst="rect">
            <a:avLst/>
          </a:prstGeom>
          <a:noFill/>
          <a:ln w="0">
            <a:noFill/>
          </a:ln>
        </p:spPr>
        <p:txBody>
          <a:bodyPr lIns="90000" rIns="90000" tIns="46800" bIns="46800" anchor="t">
            <a:normAutofit/>
          </a:bodyPr>
          <a:p>
            <a:pPr marL="411120" indent="-342720" algn="just">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Великі воронки депресії сформувалися навкруги крупних міст і в гірськовидобувних районах, нерідко вони мають діаметр 50-100 км і глибину більше 50 м. Глибина депресійної воронки в Лондоні сягає 100 м, в Києві – 65 м. Така картина спостерігається в Харкові, Полтаві. В Росії, в Москві, де діє понад 6000 водозабірних свердловин з сумарним водовідбором майже 2,6*106 м</a:t>
            </a:r>
            <a:r>
              <a:rPr b="0" lang="uk-UA" sz="2000" spc="-1" strike="noStrike" baseline="30000">
                <a:solidFill>
                  <a:srgbClr val="ffffff"/>
                </a:solidFill>
                <a:latin typeface="Times New Roman"/>
              </a:rPr>
              <a:t>3</a:t>
            </a:r>
            <a:r>
              <a:rPr b="0" lang="uk-UA" sz="2000" spc="-1" strike="noStrike">
                <a:solidFill>
                  <a:srgbClr val="ffffff"/>
                </a:solidFill>
                <a:latin typeface="Times New Roman"/>
              </a:rPr>
              <a:t>/добу, зниження рівня підземних вод досягає 70-100 м. </a:t>
            </a:r>
            <a:endParaRPr b="0" lang="en-US" sz="2000" spc="-1" strike="noStrike">
              <a:solidFill>
                <a:srgbClr val="ffffff"/>
              </a:solidFill>
              <a:latin typeface="Corbel"/>
            </a:endParaRPr>
          </a:p>
          <a:p>
            <a:pPr marL="411120" indent="-342720" algn="just">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У західних штатах США відбір підземних вод для зрошення перевищив у 140 разів природне поповнення, перестали фонтанувати сотні артезіанських свердловин. У Каліфорнії рівень підземних вод падає на 1,5-1,8 м кожний рік. Те ж саме відбувається в Арізоні, де водопостачання та зрошення цілком забезпечуються підземними водами: штат чекає справжня катастрофа, якщо не будуть знайдені інші джерела води. Вичерпується "резервуар" підземних вод Огалла, що простягнувся від штату Небраскі до Техасу: за 30 років рівень у ньому знизився більш ніж на 200 м.</a:t>
            </a:r>
            <a:endParaRPr b="0" lang="en-US" sz="2000" spc="-1" strike="noStrike">
              <a:solidFill>
                <a:srgbClr val="ffffff"/>
              </a:solidFill>
              <a:latin typeface="Corbel"/>
            </a:endParaRPr>
          </a:p>
          <a:p>
            <a:pPr marL="411120" indent="-342720" algn="just">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Іноді відкачка підземних вод призводить </a:t>
            </a:r>
            <a:r>
              <a:rPr b="0" lang="uk-UA" sz="2000" spc="-1" strike="noStrike">
                <a:solidFill>
                  <a:srgbClr val="00cc00"/>
                </a:solidFill>
                <a:latin typeface="Times New Roman"/>
              </a:rPr>
              <a:t>до </a:t>
            </a:r>
            <a:r>
              <a:rPr b="0" i="1" lang="uk-UA" sz="2000" spc="-1" strike="noStrike">
                <a:solidFill>
                  <a:srgbClr val="00cc00"/>
                </a:solidFill>
                <a:latin typeface="Times New Roman"/>
              </a:rPr>
              <a:t>інтрузії солоних морських вод</a:t>
            </a:r>
            <a:r>
              <a:rPr b="0" lang="uk-UA" sz="2000" spc="-1" strike="noStrike">
                <a:solidFill>
                  <a:srgbClr val="ffffff"/>
                </a:solidFill>
                <a:latin typeface="Times New Roman"/>
              </a:rPr>
              <a:t> у водоносні горизонти. В Нью-Йорку через інтенсивний водовідбір рівень підземних вод став нижче рівня океану, і підземні води стали солоними. Довелося переносити водозабори, як і в ряді інших приморських районах США (Каліфорнія, Канзас, Джорджія тощо).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3" name=""/>
          <p:cNvSpPr txBox="1"/>
          <p:nvPr/>
        </p:nvSpPr>
        <p:spPr>
          <a:xfrm>
            <a:off x="539280" y="476280"/>
            <a:ext cx="8280360" cy="6121440"/>
          </a:xfrm>
          <a:prstGeom prst="rect">
            <a:avLst/>
          </a:prstGeom>
          <a:noFill/>
          <a:ln w="0">
            <a:noFill/>
          </a:ln>
        </p:spPr>
        <p:txBody>
          <a:bodyPr lIns="90000" rIns="90000" tIns="46800" bIns="46800" anchor="t">
            <a:normAutofit/>
          </a:bodyPr>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Times New Roman"/>
              </a:rPr>
              <a:t>Вичерпування ресурсів підземних вод</a:t>
            </a:r>
            <a:r>
              <a:rPr b="0" lang="uk-UA" sz="2000" spc="-1" strike="noStrike">
                <a:solidFill>
                  <a:srgbClr val="ffffff"/>
                </a:solidFill>
                <a:latin typeface="Times New Roman"/>
              </a:rPr>
              <a:t> – фактор, який корінним чином перетворює довкілля. Добування води із земних надр порушує природний водний баланс, а при кількостях, що перевищують величину живлення, негативно позначається на поверхневому стоку. Знижується водність річок, зникають озера, малі річки. У воронках депресії зникає ґрунтова волога, зростає потужність зони аерації і різко скорочуються запаси зв‘язаної води. Зменшення вологості ґрунту просто впливає на умови виростання рослин, осушуються сільськогосподарських угіддя, гинуть ліси. Надмірний водовідбір викликає засолення водоносних горизонтів внаслідок підтоку морських чи глибоких солоних вод. У крайових частинах депресійних воронок швидкості переміщення підземних вод різко зростають, тому посилюються процеси розчинення та виносу речовин, зокрема карстоутворення. Нарешті, відкачка підземних вод призводить до ущільнення рихлих порід, провалів і опущенню територій, і навіть до підвищення рівня Світового океану.</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4" name=""/>
          <p:cNvSpPr txBox="1"/>
          <p:nvPr/>
        </p:nvSpPr>
        <p:spPr>
          <a:xfrm>
            <a:off x="539280" y="188640"/>
            <a:ext cx="8425080" cy="6335640"/>
          </a:xfrm>
          <a:prstGeom prst="rect">
            <a:avLst/>
          </a:prstGeom>
          <a:noFill/>
          <a:ln w="0">
            <a:noFill/>
          </a:ln>
        </p:spPr>
        <p:txBody>
          <a:bodyPr lIns="90000" rIns="90000" tIns="46800" bIns="46800" anchor="t">
            <a:normAutofit fontScale="94000"/>
          </a:bodyPr>
          <a:p>
            <a:pPr marL="64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imes New Roman"/>
              </a:rPr>
              <a:t>Охорона ресурсів підземних вод від вичерпування</a:t>
            </a:r>
            <a:endParaRPr b="0" lang="en-US" sz="3200" spc="-1" strike="noStrike">
              <a:solidFill>
                <a:srgbClr val="ffffff"/>
              </a:solidFill>
              <a:latin typeface="Corbel"/>
            </a:endParaRPr>
          </a:p>
          <a:p>
            <a:pPr marL="6408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Основними заходами з охорони підземних вод від вичерпування є, </a:t>
            </a:r>
            <a:endParaRPr b="0" lang="en-US" sz="1800" spc="-1" strike="noStrike">
              <a:solidFill>
                <a:srgbClr val="ffffff"/>
              </a:solidFill>
              <a:latin typeface="Corbel"/>
            </a:endParaRPr>
          </a:p>
          <a:p>
            <a:pPr marL="6408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по-перше, раціональне використання ресурсів підземних вод </a:t>
            </a:r>
            <a:endParaRPr b="0" lang="en-US" sz="1800" spc="-1" strike="noStrike">
              <a:solidFill>
                <a:srgbClr val="ffffff"/>
              </a:solidFill>
              <a:latin typeface="Corbel"/>
            </a:endParaRPr>
          </a:p>
          <a:p>
            <a:pPr marL="6408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по-друге, покриття дефіциту прісних підземних вод іншими джерелами.</a:t>
            </a:r>
            <a:endParaRPr b="0" lang="en-US" sz="1800" spc="-1" strike="noStrike">
              <a:solidFill>
                <a:srgbClr val="ffffff"/>
              </a:solidFill>
              <a:latin typeface="Corbel"/>
            </a:endParaRPr>
          </a:p>
          <a:p>
            <a:pPr marL="6408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0000"/>
                </a:solidFill>
                <a:latin typeface="Times New Roman"/>
              </a:rPr>
              <a:t>Раціональне використання</a:t>
            </a:r>
            <a:r>
              <a:rPr b="1" lang="uk-UA" sz="1800" spc="-1" strike="noStrike">
                <a:solidFill>
                  <a:srgbClr val="ff0000"/>
                </a:solidFill>
                <a:latin typeface="Times New Roman"/>
              </a:rPr>
              <a:t> </a:t>
            </a:r>
            <a:r>
              <a:rPr b="1" i="1" lang="uk-UA" sz="1800" spc="-1" strike="noStrike">
                <a:solidFill>
                  <a:srgbClr val="ff0000"/>
                </a:solidFill>
                <a:latin typeface="Times New Roman"/>
              </a:rPr>
              <a:t>ресурсів</a:t>
            </a:r>
            <a:r>
              <a:rPr b="0" i="1" lang="uk-UA" sz="1800" spc="-1" strike="noStrike">
                <a:solidFill>
                  <a:srgbClr val="ffffff"/>
                </a:solidFill>
                <a:latin typeface="Times New Roman"/>
              </a:rPr>
              <a:t> </a:t>
            </a:r>
            <a:r>
              <a:rPr b="1" i="1" lang="uk-UA" sz="1800" spc="-1" strike="noStrike">
                <a:solidFill>
                  <a:srgbClr val="ff0000"/>
                </a:solidFill>
                <a:latin typeface="Times New Roman"/>
              </a:rPr>
              <a:t>підземних вод</a:t>
            </a:r>
            <a:r>
              <a:rPr b="0" lang="uk-UA" sz="1800" spc="-1" strike="noStrike">
                <a:solidFill>
                  <a:srgbClr val="ffffff"/>
                </a:solidFill>
                <a:latin typeface="Times New Roman"/>
              </a:rPr>
              <a:t> вирішується, передусім, шляхом визначення економічної доцільності експлуатації підземних вод порівняно з використанням інших, можливих у даному районі, джерел водопостачання. При цьому, звичайно, окрім економічних міркувань, мають бути враховані завдання охорони підземних вод від вичерпування і законодавчо закріплені положення про те, що прісні підземні води в першу чергу призначаються для цілей господарсько-питного водозабезпечення. Лише в районах, де поверхневі води відсутні, а запаси підземних вод перевищують потреби в господарсько-питній воді, використання підземних вод для промисловості та сільського господарства може проводитися після представлення спеціального обґрунтування і з дозволу органів, що регулюють використання й охорону вод. </a:t>
            </a:r>
            <a:endParaRPr b="0" lang="en-US" sz="1800" spc="-1" strike="noStrike">
              <a:solidFill>
                <a:srgbClr val="ffffff"/>
              </a:solidFill>
              <a:latin typeface="Corbel"/>
            </a:endParaRPr>
          </a:p>
          <a:p>
            <a:pPr marL="6408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rPr>
              <a:t>Раціональному використанню ресурсів підземних вод у регіональному масштабі має сприяти розробка басейнових і районних водогосподарських балансів, які будуть служити основою для планування розміщення продуктивних сил, визначення черговості будівництва об`єктів із крупним водокористуванням, допустимих розмірів водовідбору тощо.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5" name=""/>
          <p:cNvSpPr txBox="1"/>
          <p:nvPr/>
        </p:nvSpPr>
        <p:spPr>
          <a:xfrm>
            <a:off x="539640" y="115920"/>
            <a:ext cx="8353440" cy="6626160"/>
          </a:xfrm>
          <a:prstGeom prst="rect">
            <a:avLst/>
          </a:prstGeom>
          <a:noFill/>
          <a:ln w="0">
            <a:noFill/>
          </a:ln>
        </p:spPr>
        <p:txBody>
          <a:bodyPr lIns="90000" rIns="90000" tIns="46800" bIns="46800" anchor="t">
            <a:normAutofit/>
          </a:bodyPr>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Крім того, раціональне використання підземних вод передбачає нормування та скорочення водоспоживання у промисловості, комунальному та сільському господарстві, а також зменшенні втрат води при її використанні. Велику роль в економії води має зіграти повторне використання відпрацьованих і очищених стічних вод у промисловості, теплоенергетиці, сільському господарстві.</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Другим напрямком в охороні підземних від вичерпування є засоби, які сприяють </a:t>
            </a:r>
            <a:r>
              <a:rPr b="0" i="1" lang="uk-UA" sz="2000" spc="-1" strike="noStrike">
                <a:solidFill>
                  <a:srgbClr val="ffffff"/>
                </a:solidFill>
                <a:latin typeface="Times New Roman"/>
              </a:rPr>
              <a:t>збільшенню їх запасів</a:t>
            </a:r>
            <a:r>
              <a:rPr b="0" lang="uk-UA" sz="2000" spc="-1" strike="noStrike">
                <a:solidFill>
                  <a:srgbClr val="ffffff"/>
                </a:solidFill>
                <a:latin typeface="Times New Roman"/>
              </a:rPr>
              <a:t>. Першим кроком у цьому відношенні можуть бути заходи зі </a:t>
            </a:r>
            <a:r>
              <a:rPr b="0" i="1" lang="uk-UA" sz="2000" spc="-1" strike="noStrike">
                <a:solidFill>
                  <a:srgbClr val="ffffff"/>
                </a:solidFill>
                <a:latin typeface="Times New Roman"/>
              </a:rPr>
              <a:t>збереження природної величини живлення підземних вод</a:t>
            </a:r>
            <a:r>
              <a:rPr b="0" i="1" lang="uk-UA" sz="2000" spc="-1" strike="noStrike" u="sng">
                <a:solidFill>
                  <a:srgbClr val="ffffff"/>
                </a:solidFill>
                <a:uFillTx/>
                <a:latin typeface="Times New Roman"/>
              </a:rPr>
              <a:t>,</a:t>
            </a:r>
            <a:r>
              <a:rPr b="0" lang="uk-UA" sz="2000" spc="-1" strike="noStrike">
                <a:solidFill>
                  <a:srgbClr val="ffffff"/>
                </a:solidFill>
                <a:latin typeface="Times New Roman"/>
              </a:rPr>
              <a:t> яка була порушена. </a:t>
            </a:r>
            <a:endParaRPr b="0" lang="en-US" sz="2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Однією із можливостей покриття дефіциту та зменшення витрати прісних вод є </a:t>
            </a:r>
            <a:r>
              <a:rPr b="0" i="1" lang="uk-UA" sz="2000" spc="-1" strike="noStrike">
                <a:solidFill>
                  <a:srgbClr val="ffffff"/>
                </a:solidFill>
                <a:latin typeface="Times New Roman"/>
              </a:rPr>
              <a:t>використання підземних вод підвищеної мінералізації</a:t>
            </a:r>
            <a:r>
              <a:rPr b="0" i="1" lang="uk-UA" sz="2000" spc="-1" strike="noStrike" u="sng">
                <a:solidFill>
                  <a:srgbClr val="ffffff"/>
                </a:solidFill>
                <a:uFillTx/>
                <a:latin typeface="Times New Roman"/>
              </a:rPr>
              <a:t>:</a:t>
            </a:r>
            <a:r>
              <a:rPr b="0" lang="uk-UA" sz="2000" spc="-1" strike="noStrike">
                <a:solidFill>
                  <a:srgbClr val="ffffff"/>
                </a:solidFill>
                <a:latin typeface="Times New Roman"/>
              </a:rPr>
              <a:t> солонуватих (1 – 10 г/дм</a:t>
            </a:r>
            <a:r>
              <a:rPr b="0" lang="uk-UA" sz="2000" spc="-1" strike="noStrike" baseline="30000">
                <a:solidFill>
                  <a:srgbClr val="ffffff"/>
                </a:solidFill>
                <a:latin typeface="Times New Roman"/>
              </a:rPr>
              <a:t>3</a:t>
            </a:r>
            <a:r>
              <a:rPr b="0" lang="uk-UA" sz="2000" spc="-1" strike="noStrike">
                <a:solidFill>
                  <a:srgbClr val="ffffff"/>
                </a:solidFill>
                <a:latin typeface="Times New Roman"/>
              </a:rPr>
              <a:t>) і солоних (10-5 г/дм</a:t>
            </a:r>
            <a:r>
              <a:rPr b="0" lang="uk-UA" sz="2000" spc="-1" strike="noStrike" baseline="30000">
                <a:solidFill>
                  <a:srgbClr val="ffffff"/>
                </a:solidFill>
                <a:latin typeface="Times New Roman"/>
              </a:rPr>
              <a:t>3</a:t>
            </a:r>
            <a:r>
              <a:rPr b="0" lang="uk-UA" sz="2000" spc="-1" strike="noStrike">
                <a:solidFill>
                  <a:srgbClr val="ffffff"/>
                </a:solidFill>
                <a:latin typeface="Times New Roman"/>
              </a:rPr>
              <a:t>). Слабосолонуваті підземні води можуть використовуватися в сільському господарстві для водопою овець і великої рогатої худоби, для обводнення пасовищ, зрошення деяких культур. Солонуваті та солоні води можуть знайти застосування і в промисловості, і в ряді технологічних процесів, де традиційно використовуються тільки прісні води.</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6" name=""/>
          <p:cNvSpPr txBox="1"/>
          <p:nvPr/>
        </p:nvSpPr>
        <p:spPr>
          <a:xfrm>
            <a:off x="610920" y="189000"/>
            <a:ext cx="8281800" cy="6480000"/>
          </a:xfrm>
          <a:prstGeom prst="rect">
            <a:avLst/>
          </a:prstGeom>
          <a:noFill/>
          <a:ln w="0">
            <a:noFill/>
          </a:ln>
        </p:spPr>
        <p:txBody>
          <a:bodyPr lIns="90000" rIns="90000" tIns="46800" bIns="46800" anchor="t">
            <a:normAutofit/>
          </a:bodyPr>
          <a:p>
            <a:pPr marL="411120" indent="-342720" algn="ctr">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Забруднення підземних вод</a:t>
            </a:r>
            <a:endParaRPr b="0" lang="en-US" sz="3600" spc="-1" strike="noStrike">
              <a:solidFill>
                <a:srgbClr val="ffffff"/>
              </a:solidFill>
              <a:latin typeface="Corbel"/>
            </a:endParaRPr>
          </a:p>
          <a:p>
            <a:pPr marL="411120" indent="-342720" algn="ctr">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Під </a:t>
            </a:r>
            <a:r>
              <a:rPr b="1" i="1" lang="uk-UA" sz="2000" spc="-1" strike="noStrike">
                <a:solidFill>
                  <a:srgbClr val="ff0000"/>
                </a:solidFill>
                <a:latin typeface="Times New Roman"/>
              </a:rPr>
              <a:t>забрудненням підземних вод</a:t>
            </a:r>
            <a:r>
              <a:rPr b="0" lang="uk-UA" sz="2000" spc="-1" strike="noStrike">
                <a:solidFill>
                  <a:srgbClr val="ffffff"/>
                </a:solidFill>
                <a:latin typeface="Times New Roman"/>
              </a:rPr>
              <a:t> розуміють будь-яке погіршення їх якості в результаті діяльності людини, яке зрештою робить їх непристосованими для використання.</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Залежно від ступеня зміни якості підземних вод можна виділити води: 1) слабозабруднені – показники якості води перевищують природні (фонові) значення, але нижче гранично допустимих концентрацій (ГДК) для того чи іншого виду користування; 2) забруднені – показники якості води перевищують ГДК у декілька разів; 3) сильнозабруднені – показники якості води суттєво перевищують ГДК і близькі до показників складу розчину у джерелі забруднення.</a:t>
            </a:r>
            <a:endParaRPr b="0" lang="en-US" sz="2000" spc="-1" strike="noStrike">
              <a:solidFill>
                <a:srgbClr val="ffffff"/>
              </a:solidFill>
              <a:latin typeface="Corbel"/>
            </a:endParaRPr>
          </a:p>
          <a:p>
            <a:pPr marL="411120" indent="-342720" algn="just">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В іноземній літературі для характеристики ступеня забруднення підземних вод використовують два різних терміни: </a:t>
            </a:r>
            <a:r>
              <a:rPr b="0" i="1" lang="uk-UA" sz="2000" spc="-1" strike="noStrike">
                <a:solidFill>
                  <a:srgbClr val="ffffff"/>
                </a:solidFill>
                <a:latin typeface="Times New Roman"/>
              </a:rPr>
              <a:t>contamination – </a:t>
            </a:r>
            <a:r>
              <a:rPr b="0" lang="uk-UA" sz="2000" spc="-1" strike="noStrike">
                <a:solidFill>
                  <a:srgbClr val="ffffff"/>
                </a:solidFill>
                <a:latin typeface="Times New Roman"/>
              </a:rPr>
              <a:t>зміна якості води в небажаному напрямку, і </a:t>
            </a:r>
            <a:r>
              <a:rPr b="0" i="1" lang="uk-UA" sz="2000" spc="-1" strike="noStrike">
                <a:solidFill>
                  <a:srgbClr val="ffffff"/>
                </a:solidFill>
                <a:latin typeface="Times New Roman"/>
              </a:rPr>
              <a:t>pollution – </a:t>
            </a:r>
            <a:r>
              <a:rPr b="0" lang="uk-UA" sz="2000" spc="-1" strike="noStrike">
                <a:solidFill>
                  <a:srgbClr val="ffffff"/>
                </a:solidFill>
                <a:latin typeface="Times New Roman"/>
              </a:rPr>
              <a:t>зміна якості води до стану, коли вода стає вже не придатною для практичного використання.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0T12:21:38Z</dcterms:created>
  <dc:creator>Денис</dc:creator>
  <dc:description/>
  <dc:language>en-US</dc:language>
  <cp:lastModifiedBy>Admin</cp:lastModifiedBy>
  <dcterms:modified xsi:type="dcterms:W3CDTF">2015-11-25T10:59:39Z</dcterms:modified>
  <cp:revision>19</cp:revision>
  <dc:subject/>
  <dc:title>Химический состав подземных вод</dc:title>
</cp:coreProperties>
</file>